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99FB6-74FD-40DD-B381-687C7EA9B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392FD-D2CB-4D82-8544-53B41D12D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DF8E-9D5E-4451-85A9-6F76C69D2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15E6-AD86-4EA0-9ACF-F7CF879B6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38DCC-2185-42F9-A6A3-773D288BC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8EFF8-3AB4-4826-8EB3-752075055F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0D731-216C-4097-B0F2-1F2DD5B3A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FE1EB-A64F-4C11-8CA8-CB3699AB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4C9E3-7BC3-4757-AC66-8DDD6759E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3BE1-3E0B-4AE5-86AC-274050FAD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4930A-F1E8-49AF-9F3F-FE207306D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E4EA-55CB-4C99-86A4-B5A99A9C3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0F3D-C2FE-4807-AFD1-BCA8BC546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58113-D630-4925-800C-20494792E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E82C4-0B1B-4428-B3EB-F5B5D608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4548D-0F21-4966-89E4-A0758F2B0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60744-A4BA-4666-871C-488D6FCD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AE4CB-6EEB-458B-BF40-AE976F594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317C-A855-4939-BDB5-3EEDBA0B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4D6F2-1BA4-42AB-8DAD-0F77DF614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7175F-C598-4E08-ADB1-5BE843156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1A44-439B-47F9-AC7D-76B2297AE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632D-D237-4D53-9A89-8052C7194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A38-1D29-43E8-9B67-912F2FA84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140C1-6050-45DC-B20B-0FC9A899240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E955-A57C-40C9-AF8A-D37BBD0C12F7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304920" y="990720"/>
            <a:ext cx="7086600" cy="8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6320" bIns="152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0458c"/>
                </a:solidFill>
                <a:latin typeface="Arial"/>
                <a:ea typeface="Arial"/>
              </a:rPr>
              <a:t>VBA-Makros für PowerPoint 2000 </a:t>
            </a:r>
            <a:r>
              <a:rPr b="0" lang="en-US" sz="1200" spc="-1" strike="noStrike" baseline="30000">
                <a:solidFill>
                  <a:srgbClr val="40458c"/>
                </a:solidFill>
                <a:latin typeface="Arial"/>
                <a:ea typeface="Arial"/>
              </a:rPr>
              <a:t>© 2000, Ralf Nebelo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762120" y="1752480"/>
            <a:ext cx="6037200" cy="1838520"/>
            <a:chOff x="762120" y="1752480"/>
            <a:chExt cx="6037200" cy="1838520"/>
          </a:xfrm>
        </p:grpSpPr>
        <p:grpSp>
          <p:nvGrpSpPr>
            <p:cNvPr id="209" name=""/>
            <p:cNvGrpSpPr/>
            <p:nvPr/>
          </p:nvGrpSpPr>
          <p:grpSpPr>
            <a:xfrm>
              <a:off x="766800" y="1757520"/>
              <a:ext cx="6027840" cy="1828800"/>
              <a:chOff x="766800" y="1757520"/>
              <a:chExt cx="6027840" cy="1828800"/>
            </a:xfrm>
          </p:grpSpPr>
          <p:grpSp>
            <p:nvGrpSpPr>
              <p:cNvPr id="210" name=""/>
              <p:cNvGrpSpPr/>
              <p:nvPr/>
            </p:nvGrpSpPr>
            <p:grpSpPr>
              <a:xfrm>
                <a:off x="766800" y="1757520"/>
                <a:ext cx="6027840" cy="609480"/>
                <a:chOff x="766800" y="1757520"/>
                <a:chExt cx="6027840" cy="6094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766800" y="1757520"/>
                  <a:ext cx="6027840" cy="609480"/>
                </a:xfrm>
                <a:prstGeom prst="rect">
                  <a:avLst/>
                </a:prstGeom>
                <a:solidFill>
                  <a:srgbClr val="0000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12" name=""/>
                <p:cNvGrpSpPr/>
                <p:nvPr/>
              </p:nvGrpSpPr>
              <p:grpSpPr>
                <a:xfrm>
                  <a:off x="766800" y="1757520"/>
                  <a:ext cx="6027840" cy="609480"/>
                  <a:chOff x="766800" y="1757520"/>
                  <a:chExt cx="6027840" cy="609480"/>
                </a:xfrm>
              </p:grpSpPr>
              <p:sp>
                <p:nvSpPr>
                  <p:cNvPr id="213" name=""/>
                  <p:cNvSpPr/>
                  <p:nvPr/>
                </p:nvSpPr>
                <p:spPr>
                  <a:xfrm>
                    <a:off x="811080" y="1757520"/>
                    <a:ext cx="5938920" cy="609480"/>
                  </a:xfrm>
                  <a:prstGeom prst="rect">
                    <a:avLst/>
                  </a:prstGeom>
                  <a:solidFill>
                    <a:srgbClr val="0000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400" spc="-1" strike="noStrike">
                        <a:solidFill>
                          <a:srgbClr val="ffffff"/>
                        </a:solidFill>
                        <a:latin typeface="Arial"/>
                        <a:ea typeface="Arial"/>
                      </a:rPr>
                      <a:t>MAKRO</a:t>
                    </a:r>
                    <a:endParaRPr b="0" lang="en-US" sz="1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766800" y="1757520"/>
                    <a:ext cx="6027840" cy="6094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40458c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15" name=""/>
              <p:cNvGrpSpPr/>
              <p:nvPr/>
            </p:nvGrpSpPr>
            <p:grpSpPr>
              <a:xfrm>
                <a:off x="766800" y="2367000"/>
                <a:ext cx="1844640" cy="1219320"/>
                <a:chOff x="766800" y="2367000"/>
                <a:chExt cx="1844640" cy="121932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811080" y="2367000"/>
                  <a:ext cx="175608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0000ff"/>
                      </a:solidFill>
                      <a:latin typeface="Arial"/>
                      <a:ea typeface="Arial"/>
                    </a:rPr>
                    <a:t>XLBlattEinfügen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66800" y="2367000"/>
                  <a:ext cx="184464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2611440" y="2367000"/>
                <a:ext cx="4183200" cy="1219320"/>
                <a:chOff x="2611440" y="2367000"/>
                <a:chExt cx="4183200" cy="121932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2656080" y="2367000"/>
                  <a:ext cx="4093920" cy="12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Fügt ein Arbeitsmappenblatt (Diagramm oder Tabelle) aus einer per Dialogfeld wählbaren XLS-Datei als neue Folie ein.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4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4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DE" sz="1000" spc="-1" strike="noStrike">
                      <a:solidFill>
                        <a:srgbClr val="40458c"/>
                      </a:solidFill>
                      <a:latin typeface="Arial"/>
                      <a:ea typeface="Arial"/>
                    </a:rPr>
                    <a:t> </a:t>
                  </a: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2611440" y="2367000"/>
                  <a:ext cx="4183200" cy="12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1" name=""/>
            <p:cNvSpPr/>
            <p:nvPr/>
          </p:nvSpPr>
          <p:spPr>
            <a:xfrm>
              <a:off x="762120" y="1752480"/>
              <a:ext cx="6037200" cy="183852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5257800" y="3124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0c0c0"/>
          </a:solidFill>
          <a:ln w="93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40458c"/>
                </a:solidFill>
                <a:latin typeface="Arial"/>
              </a:rPr>
              <a:t>Makro starten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8T06:57:01Z</dcterms:created>
  <dc:creator>Ralf Nebelo</dc:creator>
  <dc:description/>
  <dc:language>en-US</dc:language>
  <cp:lastModifiedBy>Ralf Nebelo</cp:lastModifiedBy>
  <dcterms:modified xsi:type="dcterms:W3CDTF">2000-04-04T12:30:56Z</dcterms:modified>
  <cp:revision>41</cp:revision>
  <dc:subject/>
  <dc:title>PowerPoint-Präsentation</dc:title>
</cp:coreProperties>
</file>